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E93A-D967-4176-B851-D027D5965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0026-D9A5-4D83-87A5-508798C5A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0E9A-82DE-4137-BDD9-049DDC1F3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4323-C9C6-462F-8ABB-CFA692FB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E811-ABE5-4474-9FB1-19D20CB2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5380-EFB4-4335-9F3B-131C4F3F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3090-EDA2-4718-AC8B-6F42BD61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0E4D-1178-436A-A788-7A24257B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EC61-862C-49DD-9C6A-9E06ABC9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A180-55DD-40A4-9FEA-29E79D98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454F-0B4D-4AA9-8C21-8ABBD732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6F3C-0D4E-46E9-8409-DAED415C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D162-AEBD-4A1F-BC2B-AFB7618E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F7AE-487A-4AC6-96CA-EE5594C3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39AB-4915-4FA0-B55F-91076DC6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1D78-513A-4C1B-BCD0-9B3596471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rela Gu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Mi llamo Mirela. Yo tengo catorce años. Yo soy dulce, amigable y cuidado . Yo vivo en Queens. Yo tengo dos hermanas. Ad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i. ¿Qué haces?                                                                 Natal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ien.  Hizo tu haces  de matematicas tarea?                               Tasha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19720"/>
            <a:ext cx="641160" cy="9334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 amiga!  ¿Cómo estás?                                                            Natalie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819520" y="4495680"/>
            <a:ext cx="373356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ada tarea                                                                             Tas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 Dondé  hizo tú  hago de  tarea?                                                                            Natal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u es fácil.  ¿eres tú en de fiesta 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anos dias ¿qué hace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rela Gu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3124080" y="175248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7"/>
          <p:cNvSpPr/>
          <p:nvPr/>
        </p:nvSpPr>
        <p:spPr>
          <a:xfrm>
            <a:off x="152280" y="3581280"/>
            <a:ext cx="175284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Mi llamo Mirela. Yo tengo catorce años. Yo soy dulce, amigable y cuidado . Yo vivo en Queens. Yo tengo dos hermanas. Ad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7"/>
          <p:cNvSpPr/>
          <p:nvPr/>
        </p:nvSpPr>
        <p:spPr>
          <a:xfrm>
            <a:off x="2743200" y="2514600"/>
            <a:ext cx="380988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 Tú quiero a ir 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19720"/>
            <a:ext cx="641160" cy="9334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7"/>
          <p:cNvSpPr/>
          <p:nvPr/>
        </p:nvSpPr>
        <p:spPr>
          <a:xfrm>
            <a:off x="2666880" y="3352680"/>
            <a:ext cx="3733920" cy="4636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Sí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7"/>
          <p:cNvSpPr/>
          <p:nvPr/>
        </p:nvSpPr>
        <p:spPr>
          <a:xfrm>
            <a:off x="2743200" y="434340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343434"/>
                </a:solidFill>
                <a:latin typeface="Arial"/>
              </a:rPr>
              <a:t>Hablo a tú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anos dias ¿qué hace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59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4:26:16Z</dcterms:created>
  <dc:creator>FriscoISD</dc:creator>
  <dc:description/>
  <dc:language>en-US</dc:language>
  <cp:lastModifiedBy>User</cp:lastModifiedBy>
  <dcterms:modified xsi:type="dcterms:W3CDTF">2013-01-02T15:00:38Z</dcterms:modified>
  <cp:revision>114</cp:revision>
  <dc:subject/>
  <dc:title>Profile</dc:title>
</cp:coreProperties>
</file>